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4.gif" ContentType="image/gif"/>
  <Override PartName="/ppt/media/image23.gif" ContentType="image/gif"/>
  <Override PartName="/ppt/media/image21.wmf" ContentType="image/x-wmf"/>
  <Override PartName="/ppt/media/image19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4.jpeg" ContentType="image/jpeg"/>
  <Override PartName="/ppt/media/image15.wmf" ContentType="image/x-wmf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9DF-BCCA-4A3D-B5FF-8A87EE72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A5C-7BA3-4645-BFC9-F6F2AAAE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2CD3-8DD6-420E-B41E-76FF4651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8AF-8855-4403-82F0-A9BB2203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8CF-33CF-414F-ACAC-5E9A0739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207-9DB0-4131-B37B-535AF246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1D9-8E25-47A6-89A2-B3687680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9D64-81E5-472E-AE87-DA44B203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223-2B19-492C-8FC8-0CB9DDBB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FF2-E419-44BF-A8DC-9012F3F4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8D6-41E1-48E6-AD04-A6E016AB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D0F-C109-4F84-BD2A-A58677EC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A362-3E42-4BAE-BAAB-36957B833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3.jpeg"/><Relationship Id="rId11" Type="http://schemas.openxmlformats.org/officeDocument/2006/relationships/image" Target="../media/image1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0"/>
            <a:ext cx="8640720" cy="56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ustar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i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i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l / ella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sted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adie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osotros / as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osotros / as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llos / ellas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stedes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76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765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341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1341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92360" y="1844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4360" y="184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im /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7640" y="2421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4360" y="24210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ou (pol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2924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29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o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0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93080" y="3500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4076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93080" y="4005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ou (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4581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4581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5157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4360" y="5157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ou (pl. po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95008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Gusta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s used when refering to                     plural objects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59500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ingular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patatas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2480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92360" y="4149720"/>
            <a:ext cx="6335640" cy="1312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aliol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39592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189000"/>
            <a:ext cx="2952720" cy="55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en salsa) alio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1125360"/>
            <a:ext cx="698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vers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ón básica 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siste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on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umo de li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eite de o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92360" y="4149720"/>
            <a:ext cx="65516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(en salsa)  brav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92360" y="4149720"/>
            <a:ext cx="65516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Los boquerones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53564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4005360"/>
            <a:ext cx="770400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berenjenas con miel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48360" y="400536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411280" y="3860640"/>
            <a:ext cx="2087640" cy="1557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179856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804000" y="2276640"/>
            <a:ext cx="2089080" cy="1554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572000" y="2276640"/>
            <a:ext cx="2232000" cy="148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2484360" y="2205000"/>
            <a:ext cx="1944720" cy="1560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395280" y="206064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6804000" y="549360"/>
            <a:ext cx="1943280" cy="1458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4572000" y="549360"/>
            <a:ext cx="2016000" cy="132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2340000" y="33336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684360" y="260280"/>
            <a:ext cx="1079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Una dieta equilibr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168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Sana o mals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com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220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ca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4000" y="31687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maris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4005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productos láct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869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materia g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177336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productos azuca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54450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legu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revise use of gu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learn some key, delicious, tapas voc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read a text about the history and origins of 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learn more about the effects of foo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read about the effect of the Mediterranean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eno para la sal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2087640" cy="1447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84360" y="2205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rne tie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leche tie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4869000"/>
            <a:ext cx="1511280" cy="131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56000" y="5300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legumb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en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itam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8492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o para la sal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1736640" cy="1682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062000" cy="122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39640" y="5013360"/>
            <a:ext cx="1295640" cy="1338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484360" y="198900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siada charcutería d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5640" y="364500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asteles tienen demasiad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53737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hamburguesas tienen much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oco d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025800" cy="136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2457720" cy="273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140360" y="213372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hocolate tiene mucha azú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ero me gusta comerlo cuando estoy depri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436572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conseja beber vino en mode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ignifica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colesto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muchas vitam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muchas calo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 mod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prote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 materia gr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a comida (mal) s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ignifica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colesto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muchas vitam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muchas calo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 mod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prote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 materia gr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a comida (mal) s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opinas de…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s costillas de ce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s salchi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salmón ahum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s bebidas alcohó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qu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zumo de naranja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a tableta de 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1628640"/>
            <a:ext cx="1857240" cy="1462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18046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e este artículo. ¿Lleva una vida sana? ¿Por qu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8000" y="1341360"/>
            <a:ext cx="914400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o que soy como la mayoría de la población británic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eral odio cocinar entonces compro muchos productos pre-cocinados y comida rápida. Como unas cuatro hamburguesas a la semana y por supuesto bebo muchos refrescos. Sin embargo cuando voy a la casa de mis padres, como muchos productos que tienen vitaminas y proteínas. Mi madre insiste en que coma carne y al menos dos piezas de fruta. Y nunca se bebe Coca-Cola. Siempre pone una botella de agua mineral en la mesa. En cuanto a los productos azucarados, la verdad es que como muy pocos pasteles o caramel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uando tengo tiempo hago deporte, pero soy bastante perezoso entonces prefiero sentarme delante de la tele y hacer el zapp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¿Crees que llevo una vida sana o malsana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592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04640"/>
            <a:ext cx="280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El consumo mod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708280"/>
            <a:ext cx="28083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800" spc="-1" strike="noStrike">
                <a:solidFill>
                  <a:srgbClr val="000000"/>
                </a:solidFill>
                <a:latin typeface="Comic Sans MS"/>
              </a:rPr>
              <a:t>Se caracteriza p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937040"/>
            <a:ext cx="280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La obesidad infan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í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08464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Una dieta salud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35640" y="50133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Las calo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í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35640" y="2852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Se deb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27813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Fuente de gr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620640"/>
            <a:ext cx="2808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500" spc="-1" strike="noStrike">
                <a:solidFill>
                  <a:srgbClr val="000000"/>
                </a:solidFill>
                <a:latin typeface="Comic Sans MS"/>
              </a:rPr>
              <a:t>La alimentaci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35640" y="260280"/>
            <a:ext cx="280836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700" spc="-1" strike="noStrike">
                <a:solidFill>
                  <a:srgbClr val="000000"/>
                </a:solidFill>
                <a:latin typeface="Comic Sans MS"/>
              </a:rPr>
              <a:t>La esperanza de vid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592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0072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0464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hildhood obe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708280"/>
            <a:ext cx="280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800" spc="-1" strike="noStrike">
                <a:solidFill>
                  <a:srgbClr val="000000"/>
                </a:solidFill>
                <a:latin typeface="Comic Sans MS"/>
              </a:rPr>
              <a:t>Source of f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937040"/>
            <a:ext cx="280836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Life </a:t>
            </a:r>
            <a:r>
              <a:rPr b="0" lang="cy-GB" sz="3700" spc="-1" strike="noStrike">
                <a:solidFill>
                  <a:srgbClr val="000000"/>
                </a:solidFill>
                <a:latin typeface="Comic Sans MS"/>
              </a:rPr>
              <a:t>expectanc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08464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35640" y="5013360"/>
            <a:ext cx="2808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Moderate </a:t>
            </a:r>
            <a:r>
              <a:rPr b="0" lang="cy-GB" sz="3500" spc="-1" strike="noStrike">
                <a:solidFill>
                  <a:srgbClr val="000000"/>
                </a:solidFill>
                <a:latin typeface="Comic Sans MS"/>
              </a:rPr>
              <a:t>consump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35640" y="2637000"/>
            <a:ext cx="2808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cy-GB" sz="3000" spc="-1" strike="noStrike">
                <a:solidFill>
                  <a:srgbClr val="000000"/>
                </a:solidFill>
                <a:latin typeface="Comic Sans MS"/>
              </a:rPr>
              <a:t>characterised 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3640" y="2781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al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620640"/>
            <a:ext cx="2808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500" spc="-1" strike="noStrike">
                <a:solidFill>
                  <a:srgbClr val="000000"/>
                </a:solidFill>
                <a:latin typeface="Comic Sans MS"/>
              </a:rPr>
              <a:t>One shoul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35640" y="260280"/>
            <a:ext cx="2808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700" spc="-1" strike="noStrike">
                <a:solidFill>
                  <a:srgbClr val="000000"/>
                </a:solidFill>
                <a:latin typeface="Comic Sans MS"/>
              </a:rPr>
              <a:t>A healthy die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El chorizo en vino ti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592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0072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04640"/>
            <a:ext cx="280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El consumo mod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708280"/>
            <a:ext cx="28083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800" spc="-1" strike="noStrike">
                <a:solidFill>
                  <a:srgbClr val="000000"/>
                </a:solidFill>
                <a:latin typeface="Comic Sans MS"/>
              </a:rPr>
              <a:t>Se caracteriza p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937040"/>
            <a:ext cx="280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La obesidad infan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í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508464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Una dieta salud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35640" y="50133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Las calo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í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35640" y="2852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Se deb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03640" y="27813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Fuente de gr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20640"/>
            <a:ext cx="2808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500" spc="-1" strike="noStrike">
                <a:solidFill>
                  <a:srgbClr val="000000"/>
                </a:solidFill>
                <a:latin typeface="Comic Sans MS"/>
              </a:rPr>
              <a:t>La alimentaci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35640" y="260280"/>
            <a:ext cx="280836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700" spc="-1" strike="noStrike">
                <a:solidFill>
                  <a:srgbClr val="000000"/>
                </a:solidFill>
                <a:latin typeface="Comic Sans MS"/>
              </a:rPr>
              <a:t>La esperanza de vid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0920" y="18900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¿Qué capacidad está afectada por una dieta poca s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¿Qué grupo fue estudi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¿Se ha realizado cuántos estudios sobre el tema en el pas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¿Comer una dieta de estilo mediterráneo puede ayudar a evitar qué enfermedad en partic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. ¿Qué pasó a la gente que siguió el plan con determinació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3573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mem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mayores de 6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ing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enfermedad de Alzhe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riesgo de la enfermedad de Alzheimer bajó casi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92360" y="4149720"/>
            <a:ext cx="6121440" cy="1312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El gazpach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 tortilla espa</a:t>
            </a:r>
            <a:r>
              <a:rPr b="0" lang="en-GB" sz="8000" spc="-1" strike="noStrike">
                <a:solidFill>
                  <a:srgbClr val="ff0000"/>
                </a:solidFill>
                <a:latin typeface="Arial"/>
                <a:ea typeface="Arial"/>
              </a:rPr>
              <a:t>ñ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48243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croque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47512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albondig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32400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Los calamar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0958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92360" y="4724280"/>
            <a:ext cx="6121440" cy="1312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gamb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2769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2:39Z</dcterms:created>
  <dc:creator>Owner1</dc:creator>
  <dc:description/>
  <dc:language>en-US</dc:language>
  <cp:lastModifiedBy>Owner1</cp:lastModifiedBy>
  <dcterms:modified xsi:type="dcterms:W3CDTF">2008-10-30T10:25:35Z</dcterms:modified>
  <cp:revision>4</cp:revision>
  <dc:subject/>
  <dc:title>Slide 1</dc:title>
</cp:coreProperties>
</file>